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3BA-B211-41DD-93F5-008C17DE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F9A-922F-49AB-8495-47A254D5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C4F-364E-4E93-95BA-74E1E04A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669-FE23-4D58-9714-F6341305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FE6-C4B2-4F2C-A7C0-99B08F3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6E6-A757-458C-B14F-20EC6450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7EB-6B2E-4B16-B621-4B3281C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5FD-DF17-400D-9EF8-068430C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B3B-7CAB-43EF-8EB1-9B5C0A71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EB8-38C4-45B5-BF11-D9A4216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917-94E1-4BAA-AF43-A757FB14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B47-A5A7-424C-8B25-3FDF82EC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0A69-3A16-40EA-BE8A-FF54DE60A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Here lies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He was as cold as an icic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He was as good as a man that the old city knew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WA</cp:lastModifiedBy>
  <dcterms:modified xsi:type="dcterms:W3CDTF">2009-12-10T20:19:38Z</dcterms:modified>
  <cp:revision>7</cp:revision>
  <dc:subject/>
  <dc:title>Slide 1</dc:title>
</cp:coreProperties>
</file>